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gif" ContentType="image/gif"/>
  <Override PartName="/ppt/media/image15.png" ContentType="image/png"/>
  <Override PartName="/ppt/media/image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E959-03CE-4FF7-8694-2B530E16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22C9-3DE2-4749-A0AD-750668370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E0F-C578-4984-B5EC-61571CDF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1BE-CCF3-41D1-AE56-77C9AEDA8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rolguze.com/text/442-2-mutation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6D54-A742-4AEE-B020-7B86C5AA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ysticfibrosis.ca/about-cf/what-is-cystic-fibr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3D5-658D-4E9D-A196-0C3E68B2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rn.genetics.utah.edu/content/disorders/singlegene/sicklecel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scienceinschool.org/2010/issue14/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09F8-43ED-4CA1-9F42-3D925BB7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6141-73DF-411C-81C9-A0ECD701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unnynj.com/lactose-intolerance-mil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835-82E2-4ACD-9C58-A25AAB5E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 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8605-78A0-4BE9-A200-288DFB3A6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97C-8BC0-4DE9-A593-4860268F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yourgenome.org/facts/what-is-the-central-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7E17-2D3F-4C0E-AD77-B8F2C85B9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18AC-5723-4188-89CA-6F2BE4BD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2D8-A9E5-4DDA-AF0A-DBA21FC0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nanews.blogspot.ca/2013/04/what-is-three-parts-of-nucleot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E173-082D-475C-BC54-DA116BB7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hopkinsville.kctcs.edu/instructors/Jason-Arnold/VLI/VLI/VLI818/M1SCINCE%20BIOCHEMMOLCULES/Modules/m1chem/m1chem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C2A-6C7F-46E9-BABA-2283B68D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vulgaire.com/dna-mut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97E-C740-4DF2-8441-1C758101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IIIC3Cause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849C-A5AC-49C2-9702-CEE88CC7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eplicationshm.wikispaces.com/Replication+Mal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:  usually errors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mutations caused by: radiation, cigarette smok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DNA_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F0A-1CA0-4979-ADDB-79D33A40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A20-6D20-4EF3-9858-DBAF8154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1E1-E782-4433-9CD0-0147BC3C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C8A-81BA-46DF-B576-59FB5967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1EA-3655-4B2A-839B-060735CC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2EB-37A8-4C88-B250-7090111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E86-5E67-4E69-B09C-85CF3583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27E-09E9-4E38-9649-A033D4E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808-F6F1-4A5B-87D7-085C9894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BC1-D115-4677-AC2C-D0F0C95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214-375C-4F15-8753-403F1E2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A02-53FE-4020-BC37-42F69D3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752-AD09-4659-93A9-4367BCA7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6D0C-94FC-4CD3-960E-874D42C0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The Code of Lif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bstitutions, insertions, dele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ndisjunction; large-scale deletions, insertions, inversions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utations"/>
          <p:cNvPicPr/>
          <p:nvPr/>
        </p:nvPicPr>
        <p:blipFill>
          <a:blip r:embed="rId1"/>
          <a:stretch/>
        </p:blipFill>
        <p:spPr>
          <a:xfrm>
            <a:off x="685800" y="1044720"/>
            <a:ext cx="77724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mutations of CFTR gene (on chromosome 7) cause cystic fibr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AboutCF-Chart-ENG2-300x262"/>
          <p:cNvPicPr/>
          <p:nvPr/>
        </p:nvPicPr>
        <p:blipFill>
          <a:blip r:embed="rId1"/>
          <a:stretch/>
        </p:blipFill>
        <p:spPr>
          <a:xfrm>
            <a:off x="4495680" y="2179800"/>
            <a:ext cx="43434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a single point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icklecell"/>
          <p:cNvPicPr/>
          <p:nvPr/>
        </p:nvPicPr>
        <p:blipFill>
          <a:blip r:embed="rId1"/>
          <a:stretch/>
        </p:blipFill>
        <p:spPr>
          <a:xfrm>
            <a:off x="5108400" y="1523880"/>
            <a:ext cx="273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ria &amp; 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10" descr="issue14evolution7_large.jpg"/>
          <p:cNvPicPr/>
          <p:nvPr/>
        </p:nvPicPr>
        <p:blipFill>
          <a:blip r:embed="rId1"/>
          <a:srcRect l="1868" t="0" r="1868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ose In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act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ue to a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is on chromosom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Lactose+by+Jessie"/>
          <p:cNvPicPr/>
          <p:nvPr/>
        </p:nvPicPr>
        <p:blipFill>
          <a:blip r:embed="rId1"/>
          <a:stretch/>
        </p:blipFill>
        <p:spPr>
          <a:xfrm>
            <a:off x="4191120" y="2108160"/>
            <a:ext cx="4572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65% of adults decrease the production of the enzyme lactase after weaning, i.e. they become 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oler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und at higher frequencies in Europeans, and some African, Middle Eastern and South Asian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6" descr="Screen Shot 2016-10-20 at 11.31.16 PM.png"/>
          <p:cNvPicPr/>
          <p:nvPr/>
        </p:nvPicPr>
        <p:blipFill>
          <a:blip r:embed="rId1"/>
          <a:srcRect l="0" t="-11162" r="0" b="-11162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can be helpful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resistance"/>
          <p:cNvPicPr/>
          <p:nvPr/>
        </p:nvPicPr>
        <p:blipFill>
          <a:blip r:embed="rId1"/>
          <a:stretch/>
        </p:blipFill>
        <p:spPr>
          <a:xfrm>
            <a:off x="685800" y="2655720"/>
            <a:ext cx="7772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DNA “do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kes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5" descr="dna_central_dogma_yourgenome.png"/>
          <p:cNvPicPr/>
          <p:nvPr/>
        </p:nvPicPr>
        <p:blipFill>
          <a:blip r:embed="rId1"/>
          <a:srcRect l="-24627" t="0" r="-24627" b="0"/>
          <a:stretch/>
        </p:blipFill>
        <p:spPr>
          <a:xfrm>
            <a:off x="3564000" y="1700280"/>
            <a:ext cx="482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oublehelix"/>
          <p:cNvPicPr/>
          <p:nvPr/>
        </p:nvPicPr>
        <p:blipFill>
          <a:blip r:embed="rId1"/>
          <a:stretch/>
        </p:blipFill>
        <p:spPr>
          <a:xfrm>
            <a:off x="2131920" y="1600200"/>
            <a:ext cx="480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hree parts of nucleotide"/>
          <p:cNvPicPr/>
          <p:nvPr/>
        </p:nvPicPr>
        <p:blipFill>
          <a:blip r:embed="rId1"/>
          <a:stretch/>
        </p:blipFill>
        <p:spPr>
          <a:xfrm>
            <a:off x="1895400" y="1981080"/>
            <a:ext cx="535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3-20b_dna_and_rna_stru_c"/>
          <p:cNvPicPr/>
          <p:nvPr/>
        </p:nvPicPr>
        <p:blipFill>
          <a:blip r:embed="rId1"/>
          <a:stretch/>
        </p:blipFill>
        <p:spPr>
          <a:xfrm>
            <a:off x="1492200" y="1600200"/>
            <a:ext cx="615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a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mu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na-mutation"/>
          <p:cNvPicPr/>
          <p:nvPr/>
        </p:nvPicPr>
        <p:blipFill>
          <a:blip r:embed="rId1"/>
          <a:stretch/>
        </p:blipFill>
        <p:spPr>
          <a:xfrm>
            <a:off x="685800" y="2681280"/>
            <a:ext cx="7848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cause mu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NA_UV_mutation"/>
          <p:cNvPicPr/>
          <p:nvPr/>
        </p:nvPicPr>
        <p:blipFill>
          <a:blip r:embed="rId1"/>
          <a:stretch/>
        </p:blipFill>
        <p:spPr>
          <a:xfrm>
            <a:off x="3886200" y="2244600"/>
            <a:ext cx="46483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 during DNA replication.  In cells that divide quickly, the rate of mutations is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4" descr="1200px-DNA_replication_split.svg.png"/>
          <p:cNvPicPr/>
          <p:nvPr/>
        </p:nvPicPr>
        <p:blipFill>
          <a:blip r:embed="rId1"/>
          <a:srcRect l="-30630" t="0" r="-30630" b="0"/>
          <a:stretch/>
        </p:blipFill>
        <p:spPr>
          <a:xfrm>
            <a:off x="4427640" y="1484280"/>
            <a:ext cx="403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8-02-08T04:52:53Z</dcterms:modified>
  <cp:revision>182</cp:revision>
  <dc:subject/>
  <dc:title>Molecular Genetics</dc:title>
</cp:coreProperties>
</file>